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0EEE-7B93-47E1-9926-D314DC72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2FFC-2557-45FB-8881-42E8672E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7385-E23D-4879-A5A6-A50FD9B1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4CB3-473F-4237-8F55-A6C5969C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6E9-8689-48F7-BF6D-45ED58F8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54C-8831-4C54-8DB6-9B242F95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07BC-F2F1-4FBA-8277-CB863D32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0EBD-0D17-4E60-841C-C621F0E6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00BD-6266-4244-9639-4665839F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B6D3-E404-421E-8811-B65D09F3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C59E-0B6C-48DC-9BBB-3549C977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B9B1-4252-4E65-BB30-DF38AC16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94C6-0AC0-4CDC-9058-01BA14A3E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8:34:51Z</dcterms:created>
  <dc:creator>abeason</dc:creator>
  <dc:description/>
  <dc:language>en-US</dc:language>
  <cp:lastModifiedBy>abeason</cp:lastModifiedBy>
  <dcterms:modified xsi:type="dcterms:W3CDTF">2008-11-19T18:34:55Z</dcterms:modified>
  <cp:revision>1</cp:revision>
  <dc:subject/>
  <dc:title>Slide 1</dc:title>
</cp:coreProperties>
</file>